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E77-4E2D-4DEB-A119-E1BD201B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503-6439-48AB-99FD-FCDC9C99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101-643B-452B-BB44-8877EC91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534-025E-4150-8762-67EA70EB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D5F-C9CE-4001-BFF0-33C9C96B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3D8-F838-4BF2-AF32-6F480AF8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E43-6861-4B0F-94BA-A6760489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CAA-4E17-46AF-8B87-B4677377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890-BAE3-4F47-B889-ABB5D4AE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AE5-42E8-4168-A248-E37F726D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139-52AB-4F18-B9EF-232D7107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840-C736-4423-8A85-2A9C8D65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984B-E1EA-4D06-872A-C8EB0DF4FFA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00000"/>
                </a:solidFill>
                <a:latin typeface="Calibri"/>
              </a:rPr>
              <a:t>Rock Types And Classificati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gne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gneous rock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fire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originate from the magma in the mantle of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rusive igneous rocks are formed by being thrown out during a volcanic erup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cool very quickly once they reach the surfa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example of an extrusive igneous rock i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asal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usive igneous rocks are formed under the surface of the earth, cooling very slowly to form a large area of rock under the surface of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example of an intrusive igneous rock i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rani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Igneous 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sciencealtavista.files.wordpress.com/2010/02/geology-igneous-rocks1.jpg"/>
          <p:cNvPicPr/>
          <p:nvPr/>
        </p:nvPicPr>
        <p:blipFill>
          <a:blip r:embed="rId1"/>
          <a:stretch/>
        </p:blipFill>
        <p:spPr>
          <a:xfrm>
            <a:off x="193680" y="1557360"/>
            <a:ext cx="87948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diment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millions of years the actions of rivers, glaciers and the wind produce large amounts of small particles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di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ccumulated on sea floors in layers, and due to the pressure of material above they were compressed to form ro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dimentary 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t1.gstatic.com/images?q=tbn:ANd9GcS4P_FKnjuWy_6Lo7_greKz8hI43TSvYRoGOe5K_mojJ7BF1B8g&amp;t=1"/>
          <p:cNvPicPr/>
          <p:nvPr/>
        </p:nvPicPr>
        <p:blipFill>
          <a:blip r:embed="rId1"/>
          <a:stretch/>
        </p:blipFill>
        <p:spPr>
          <a:xfrm>
            <a:off x="1879560" y="1197000"/>
            <a:ext cx="53294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dimentary Rock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ndst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ich is made from compressed s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y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ich is made from compressed mu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al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ich is made from the compressed remains of ancient for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l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mestone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ich is made from the compressed remains of plants and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cks which have been changed in shape or form, usually by heat or pressure, are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morphic ro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gin as either igneous or sedimentary rocks before being changed, usually in areas of high pressure and intense heat, such as plate marg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ich used to be clay)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r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ich used to be limesto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tamorphic 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nps.gov/features/yell/slidefile/geology/metamorphic/Images/17034.jpg"/>
          <p:cNvPicPr/>
          <p:nvPr/>
        </p:nvPicPr>
        <p:blipFill>
          <a:blip r:embed="rId1"/>
          <a:stretch/>
        </p:blipFill>
        <p:spPr>
          <a:xfrm>
            <a:off x="592200" y="1268280"/>
            <a:ext cx="8064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Rock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geolsoc.org.uk/webdav/site/GSL/shared/images/education_and_careers/RockCycle/Rock%20Cycle%20all%20labels.jpg"/>
          <p:cNvPicPr/>
          <p:nvPr/>
        </p:nvPicPr>
        <p:blipFill>
          <a:blip r:embed="rId1"/>
          <a:stretch/>
        </p:blipFill>
        <p:spPr>
          <a:xfrm>
            <a:off x="1042920" y="1171440"/>
            <a:ext cx="703728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3:30:18Z</dcterms:created>
  <dc:creator>Dell_02</dc:creator>
  <dc:description/>
  <dc:language>en-US</dc:language>
  <cp:lastModifiedBy>Dell_02</cp:lastModifiedBy>
  <dcterms:modified xsi:type="dcterms:W3CDTF">2011-01-26T03:49:56Z</dcterms:modified>
  <cp:revision>2</cp:revision>
  <dc:subject/>
  <dc:title>Rock Types And Classifications</dc:title>
</cp:coreProperties>
</file>